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ECDB-4DF3-432C-9206-BA74E333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DA3-9207-499A-AFC8-0FCA0E0D3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EEB4-7E29-4EE2-9C75-AE7BB98E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CED3-D83D-4546-BE0D-96CEEC46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B713-F4F9-4491-815F-F8E6ED23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4FDB-5792-4C04-B5CF-0CC75D2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BFCC-2A4D-4A99-A053-4B42E7B8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831-380B-4ABE-A35D-B9964846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DC3-ABD2-4654-88BF-61C61A2AC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0F2-B851-4BC9-98EB-9278A8D4B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0149-D7F5-46A9-8DF7-308A594D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1BFA-2E49-4A84-AB72-9B6EDCFC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8E6AE-5AE9-4EB4-BC03-F597A261A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h.hawaii.edu/~hile/math100/combc_files/cards.jpg&amp;imgrefurl=http://www.math.hawaii.edu/~hile/math100/combc.htm&amp;h=192&amp;w=210&amp;sz=7&amp;hl=en&amp;start=3&amp;tbnid=S48EXtkf6qx_YM:&amp;tbnh=97&amp;tbnw=106&amp;prev=/images%3Fq%3Dhand%2Bof%2Bcards%26gbv%3D2%26svnum%3D10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Measu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"/>
          <p:cNvPicPr/>
          <p:nvPr/>
        </p:nvPicPr>
        <p:blipFill>
          <a:blip r:embed="rId1"/>
          <a:stretch/>
        </p:blipFill>
        <p:spPr>
          <a:xfrm>
            <a:off x="4951440" y="1600200"/>
            <a:ext cx="3432240" cy="45259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ed with 15 of 100 l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of 15 lead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 3-4 con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 1 of 5 Cold Call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average 50%+ MQLs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arly </a:t>
            </a: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4951440" y="1600200"/>
            <a:ext cx="343224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Execs Hard to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Contact Standards used for inbound leads for contac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ales Inno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4951440" y="1600200"/>
            <a:ext cx="343224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to Better Reach IT Ex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Marke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Winning H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to Better Reach IT Exe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Marketing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Analytics to improve sales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86400" y="1981080"/>
            <a:ext cx="289728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ch Execs Via timed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st Times to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0AM 930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30AM-1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30-60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st Times to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AM-1130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PM -330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st Calling to Time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world3"/>
          <p:cNvPicPr/>
          <p:nvPr/>
        </p:nvPicPr>
        <p:blipFill>
          <a:blip r:embed="rId1"/>
          <a:srcRect l="10364" t="24777" r="10106" b="16457"/>
          <a:stretch/>
        </p:blipFill>
        <p:spPr>
          <a:xfrm>
            <a:off x="4952880" y="2228760"/>
            <a:ext cx="347688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come a Super-S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takes IMTS 25 calls to execute a 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ve one message call 25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g up on third or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*69 to block caller ID once you have the direct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253512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rketing Inno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990720" y="2057400"/>
            <a:ext cx="380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-you Letter with White Paper to warm up prosp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-up letter 2 weeks after lead goes l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ting analytics to preselect best lead can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1905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6:57:50Z</dcterms:created>
  <dc:creator>Paul Ludwig</dc:creator>
  <dc:description/>
  <dc:language>en-US</dc:language>
  <cp:lastModifiedBy>Jay Jablonski</cp:lastModifiedBy>
  <dcterms:modified xsi:type="dcterms:W3CDTF">2011-09-26T14:51:15Z</dcterms:modified>
  <cp:revision>3</cp:revision>
  <dc:subject/>
  <dc:title>Marketing Proposal for</dc:title>
</cp:coreProperties>
</file>